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D126-77DA-4966-93E0-BAC68437CD4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BD94-25E6-4114-A20E-97E7A385383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763B-5AB7-48A1-A71C-39A80E21411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92760" y="4952880"/>
            <a:ext cx="59184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an be used for various purposes in addition to those initially planned by the investigators who originally collected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w products, such as maps, can be created and 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y be integrated with other data to create new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ies may be published about the use of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licies, plans, and reports may result from using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the use of scientific data identifies how the data have been used, can reveal benefits and impacts of their use, and can justify previous and future data effor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track data usag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producers, distributors, stewards, and sponsors need to know how the data have been us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termine whether the data are useful to ot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will learn which communities the data are serv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document the data with descriptions of prior 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justify the costs of the effort and demonstrate the potential value of sponsoring future effor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wareness of how data have been used may identify opportunities for new data collection and distribution effor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data usage can justify the effort of collecting data and of developing and distributing data products or servic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vidence of beneficial data use demonstrates accomplishments for those who contributed to the effor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scribing tracked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may be describe in terms of  user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s of the data can be categorized by purpos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ing uses of similar data should inform initial data development and dissemination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uses should inform enhancements for data products and related services and can be used to identify the impacts of the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 and subscribe to alerts from publish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data are sensitive and may require special handl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for various reaso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esignation of data as sensitive may be permanent or tempora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nsitive data must be identified and properly handled to ensure that any sensitive information is not compromis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rs must ensure that sensitive data are adequately protected so that they are not accessed or modified by unauthorized persons and are not lost or misu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users must ensure that their handling or use does not violate any restrictions that have been placed on sensitive data that they us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is sensitive data a concern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to protect individuals and other life forms, property, programs, or other intere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ws, regulations, or policies may designate data as sensitiv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icenses and agreements may specify requirements to protect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curity: data about locations or property that cannot be disclo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vacy and civil rights: personal or information identifying individual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ronmental information about locations or inhabitants that need to be prote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prietary information about new developments or technologie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iolating restrictions that have been placed on sensitive data is unethical and could result in civil or criminal penalties, such as fines, loss of privileges, or incarcer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are sensitive data handl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53800" y="2361960"/>
            <a:ext cx="1242036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ccess and use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itive data must be protected to limit who may have access or how they are us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uthorization for access may be limited to specific individuals or specific purpos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itive data may require additional security, monitoring, and loss preven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afeguards may need to limit modifications or derivations of sensitiv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ether sensitive data may be used in products or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semination and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is authorized to distribute the data, how the data may be distributed, and whether copies of the data may be crea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sensitive data may be limited to a specific location or servic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time period, which may be in the futur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data and derived products or associated services may be limited.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handling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 data that must be designated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signate data that are sensitive and label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e sensitive data in secure facil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nsport sensitive data using secure me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with sensitive data, a description of the conditions for handling sensitive data along with acceptable us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 infrastructure and procedures for storing, managing, disseminating, accessing, copying, transmitting, and using sensitiv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in staff on how to protect sensitive data from unauthorized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of 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imit access to authorized individuals or rol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able access within a facility only accessible by authorized pers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imit access to authorized individuals with password-protec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stablish a data enclave without capabilities to copy or transmit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vide options for authorizing access to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evidence of approval or experti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users to sign a confidentiality, non-disclosure, or data use agreement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approval of data protection plan from potential user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an exception or waiver of restrictions under certain condi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clearance for specific individuals to access sensitiv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declassification of sensitive data from relevant authority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dify the data to protect sensitive por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hange aspects of data that are sensitive (recode, generaliz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move or obscure the portions of data that are sensitive (redact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82400" y="2324160"/>
            <a:ext cx="121158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view or establish organizational policies on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dentify conditions under which sensitive data may be disseminat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ect a dissemination method that does not violate restrictions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 a data dissemination plan for sensitive data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quest approval from authorities for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e data in accordance with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nitor data dissemination to ensure compliance with all restrictions on sensitive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ease dissemination if restrictions on sensitive data are violated and immediately report any violations to authorities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your data - 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Mechanis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Data Us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ndling Sensitiv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pache Software Foundation: Licenses http://www.apache.org/licenses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determine your audienc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audience for data products or services influences the development and management of the resources to foster discovery, accessibility, understandability, and usability by the audience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s, distributors, stewards, and sponsors of data need to know what audiences are being 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velop resource for use by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can package, promote, and disseminate resources to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manage the data to meet current and prospective audience needs and assess its value to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support data collection, development, and distribution for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termine audience throughout data lifecyc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user demographic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the application and uses of data products and servic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ation of the intended audience should inform initial data development and dissemination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audiences should inform enhancements for data products and related services and can be used to identify the impacts of the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determining current audie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igh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llectual property rights for the use of data are decided by the producer (or owner, if different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censes or permissions may allow others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escription of the rights for the use of data should be packaged with the data so that potential users can determine what they are allowed to do with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pplying non-restrictive licenses and open data practices can allow more uses of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also should be described for any documents, software code, or scripts that are needed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laws are not the same in every coun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 US, copyright is automatically applied to original works, not to fact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of rights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, stewards, and end-users of data need to receive rights for us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s need rights to modify and disseminate the data and to allow others to distribut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tewards need to acquire rights to maintain, modify, and stor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d-users need to acquire rights to us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ipients of rights need to know what rights they have been granted for using the data so that they may exercise their rights and are aware of any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mple language should be used to communicate rights assigned to the user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f clear descriptions of the rights are packaged with the data, then users can easily learn about their rights and requests for rights will be lim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Machine-readable rights descriptions can be harvested for distribution in catalog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ssigning rights: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680" y="2324160"/>
            <a:ext cx="114091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ublic Domain – not copyrighted, permission is not requir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created by some government agencies may be in the public domai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in the public domain can be marked to identify them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Rights can be waived by applying a Creative Commons 0 (CC0)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reativeCommons.org licenses for copyright holder to allow use, dissemination, derivation, integ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 License: requires attribution (cite the source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D: requires attribution, no derivatives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C License: requires attribution, no commercial use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SA License: requires attribution, share alike using same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pache.org license for copyright holder of scripts and computer cod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pplied to code to allow “worldwide, non-exclusive, no-charge, royalty-free, irrevocable copyright license to reproduce, prepare Derivative Works of, publicly display, publicly perform, sublicense, and distribute” (Apache License 2.0, 2004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2" name="Picture 4" descr=""/>
          <p:cNvPicPr/>
          <p:nvPr/>
        </p:nvPicPr>
        <p:blipFill>
          <a:blip r:embed="rId1"/>
          <a:stretch/>
        </p:blipFill>
        <p:spPr>
          <a:xfrm>
            <a:off x="11111040" y="5318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5" descr=""/>
          <p:cNvPicPr/>
          <p:nvPr/>
        </p:nvPicPr>
        <p:blipFill>
          <a:blip r:embed="rId2"/>
          <a:stretch/>
        </p:blipFill>
        <p:spPr>
          <a:xfrm>
            <a:off x="11120400" y="5759280"/>
            <a:ext cx="838080" cy="295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"/>
          <p:cNvPicPr/>
          <p:nvPr/>
        </p:nvPicPr>
        <p:blipFill>
          <a:blip r:embed="rId3"/>
          <a:stretch/>
        </p:blipFill>
        <p:spPr>
          <a:xfrm>
            <a:off x="11142720" y="62056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"/>
          <p:cNvPicPr/>
          <p:nvPr/>
        </p:nvPicPr>
        <p:blipFill>
          <a:blip r:embed="rId4"/>
          <a:stretch/>
        </p:blipFill>
        <p:spPr>
          <a:xfrm>
            <a:off x="11120400" y="6629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"/>
          <p:cNvPicPr/>
          <p:nvPr/>
        </p:nvPicPr>
        <p:blipFill>
          <a:blip r:embed="rId5"/>
          <a:stretch/>
        </p:blipFill>
        <p:spPr>
          <a:xfrm>
            <a:off x="10788480" y="8534520"/>
            <a:ext cx="148284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provid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ingle or multiple distributors (version control, commitment, cited sourc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roducer’s website, project website, blog, Email,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tributo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’s website: organized by collections, projects, or produc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 access to packaged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package includes documentation (any information users need to know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o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ree or fee, discovery, user capabilities, user services (help), registration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ganizational commitment, infrastructure, continuing managemen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06:28Z</dcterms:modified>
  <cp:revision>74</cp:revision>
  <dc:subject/>
  <dc:title>ESIP Federation 101</dc:title>
</cp:coreProperties>
</file>